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FEA-5311-4D46-B00D-95B0364B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063-D668-414D-8B2D-AE445A81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FA7-FCF2-4F3A-8286-561C12AD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E7C-42AD-479C-AD9A-0EC22D45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0E8-503F-45A3-9AF0-FA340711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A56-E7AB-48C2-BEB2-1819002A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423-70AA-4E73-8C19-F9AE2C57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E8D-8FAE-456B-8E3E-CCFF8526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7BC-484B-4CA9-B4E1-4A3C67EC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5D4-48BE-4ED4-95E4-12868477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9EF-BD93-4BC8-9D04-FEBA1A7F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90A-64BA-48CF-B02A-F71953FB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0F91-8E57-4266-9513-DA059E8BC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066680"/>
            <a:ext cx="64008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solidFill>
                    <a:srgbClr val="000000"/>
                  </a:solidFill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&amp;M'S</a:t>
            </a:r>
            <a:endParaRPr b="0" lang="en-US" sz="1800" spc="1" strike="noStrike">
              <a:ln w="0">
                <a:solidFill>
                  <a:srgbClr val="000000"/>
                </a:solidFill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858000" y="571500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Matt 2-2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Computer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53280" y="380880"/>
            <a:ext cx="60984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Mars"/>
          <p:cNvPicPr/>
          <p:nvPr/>
        </p:nvPicPr>
        <p:blipFill>
          <a:blip r:embed="rId1"/>
          <a:srcRect l="44871" t="0" r="0" b="0"/>
          <a:stretch/>
        </p:blipFill>
        <p:spPr>
          <a:xfrm>
            <a:off x="4724280" y="3706920"/>
            <a:ext cx="4419720" cy="315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Mars"/>
          <p:cNvPicPr/>
          <p:nvPr/>
        </p:nvPicPr>
        <p:blipFill>
          <a:blip r:embed="rId2"/>
          <a:srcRect l="0" t="0" r="51286" b="0"/>
          <a:stretch/>
        </p:blipFill>
        <p:spPr>
          <a:xfrm>
            <a:off x="0" y="0"/>
            <a:ext cx="4419720" cy="3124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7680" y="35416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8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.mit.edu/invent/iow/ma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vention:M&amp;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41 M&amp;M’S were being produced in Newark, N.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 year later, during World War 2, the candy became popular to soldiers because they were easy to move to different places and could stand high temper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On 1945 the war ended, and M&amp;M’S became open to  the public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 1950 they started imprinting a the letter “M” on it to ensure customers they were getting the 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 1954 M&amp;M peanuts were introduced and the black “M” imprint was changed to wh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d6bf"/>
                </a:solidFill>
                <a:latin typeface="Arial"/>
              </a:rPr>
              <a:t>Inventor: Forrest E. 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d6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d6bf"/>
                </a:solidFill>
                <a:latin typeface="Arial"/>
              </a:rPr>
              <a:t>Born on march 21, 1901 in Minnes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d6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d6bf"/>
                </a:solidFill>
                <a:latin typeface="Arial"/>
              </a:rPr>
              <a:t>Was raised in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d6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d6bf"/>
                </a:solidFill>
                <a:latin typeface="Arial"/>
              </a:rPr>
              <a:t>Went to university of California at Berkley and later transferred to Yale university where he got a degree in industri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d6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d6bf"/>
                </a:solidFill>
                <a:latin typeface="Arial"/>
              </a:rPr>
              <a:t>Worked in England for Nestle and Todler. He also set up a small candy factory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d6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d6bf"/>
                </a:solidFill>
                <a:latin typeface="Arial"/>
              </a:rPr>
              <a:t>Moved to united states and opened a gourmet dog food business and Uncle Ben’s rice line. Later moved to candy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45Z</dcterms:created>
  <dc:creator>install</dc:creator>
  <dc:description/>
  <dc:language>en-US</dc:language>
  <cp:lastModifiedBy>install</cp:lastModifiedBy>
  <dcterms:modified xsi:type="dcterms:W3CDTF">2011-03-11T18:31:22Z</dcterms:modified>
  <cp:revision>13</cp:revision>
  <dc:subject/>
  <dc:title>Slide 1</dc:title>
</cp:coreProperties>
</file>